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0386-205B-4597-BC2C-8DD8E9D5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692F-CD21-4761-8560-43E48A01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647F-A556-4D0A-AE2C-2FA92E27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29F1-B318-4BC9-A5C0-6CA7C830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3F5D-8DA4-48C9-9623-13A135A8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EF6A-9391-4D0D-8E24-51DBCD98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14A-B53D-46FA-A692-A763DBA6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35AD-F8A1-49D5-9968-065D66A7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3120-801E-4627-A123-77D2A383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1145-314B-4BC2-9196-09F8E40B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4728-EC3E-41F3-8A59-BFACDADA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E565-C3A0-438A-A830-4C864A50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B02B-425C-4AB8-8AFC-19F6351EB1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057400" y="3200400"/>
            <a:ext cx="446724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6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0040" y="152280"/>
            <a:ext cx="8920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 since the Civil War,the South has struggled to f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ys to deal with their troubled p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signs which a new,different South is co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of its dark p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eople of Atlanta struggled to create a new S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r slaves and slave owners could live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ite of the hardships of the years,the people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anta continued to develop the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justices led Dr King to organise nonviol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ons aimed at end segreg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99072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86040" y="6001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1828800"/>
            <a:ext cx="838080" cy="76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48480" y="174312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8458200" y="2971800"/>
            <a:ext cx="30492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763120" y="3048120"/>
            <a:ext cx="3808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49400" y="34434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4038480"/>
            <a:ext cx="4572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62720" y="4410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4495680"/>
            <a:ext cx="76212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6172200"/>
            <a:ext cx="609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19920" y="570564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2920" y="295200"/>
            <a:ext cx="894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many other Southern cities,Atlanta is a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hope and faith have replaced with fear and dou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outh still has many problems to deal with,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there are determined to make a new begi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unted bison,a type of cattle used to exist in hu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s on the plains of Ame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group of native Americans were forced to 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ay from their old hunting gr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killed the bison and cut off the skins,which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nt by the rail to cities to be sol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762120"/>
            <a:ext cx="4572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01520" y="9810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1066680"/>
            <a:ext cx="60948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72400" y="2057400"/>
            <a:ext cx="609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39400" y="227664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10080" y="3123720"/>
            <a:ext cx="22860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3200400"/>
            <a:ext cx="22860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58520" y="33433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46483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86040" y="448632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5943600"/>
            <a:ext cx="4572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58160" y="593424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6019920"/>
            <a:ext cx="6858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6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265760" y="1057320"/>
            <a:ext cx="199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烧毁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带起，剥夺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一系列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打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为了纪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徒然，枉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重新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大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与…达成协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结果，因此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以吃…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灭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50440" y="1004760"/>
            <a:ext cx="22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burn down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67600" y="1438200"/>
            <a:ext cx="18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ake awa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81080" y="197172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 series of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0040" y="227664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hoot …to deat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06200" y="2733840"/>
            <a:ext cx="34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in honour/memor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10040" y="311472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in va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82880" y="3571920"/>
            <a:ext cx="35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make a new begi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78320" y="402912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in hug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69040" y="44863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make agreements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14960" y="4867200"/>
            <a:ext cx="19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s a result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37920" y="5324400"/>
            <a:ext cx="11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liv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72320" y="570564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die ou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27160" y="523800"/>
            <a:ext cx="2270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轮流，反过来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有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出售，减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出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不打扰；不理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冒险；碰运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以…结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8320" y="54756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华文宋体"/>
              </a:rPr>
              <a:t>in tur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0760" y="981000"/>
            <a:ext cx="27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have an effect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85640" y="136224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华文宋体"/>
              </a:rPr>
              <a:t>on s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72320" y="174312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put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47760" y="2200320"/>
            <a:ext cx="23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leave sb.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44280" y="27338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ake a ch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83240" y="311472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end up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04920" y="3049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6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153720" y="1209600"/>
            <a:ext cx="8864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iendship is like money : easier made than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kept        B. to be kept    C. keeping   D. being k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re are three waiting –rooms in the new st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about 1, 000 passeng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ating      B. sat       C. seated       D. si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__________everything, the wolves had nowhere to h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msel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unted                         B. Hunting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Having hunted            D. Were hu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he came in,  ________ by a group of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ollowing       B. followed    C. to follow   D. fo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01520" y="1209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53000" y="2505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2932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86360" y="5019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91600" y="295200"/>
            <a:ext cx="8679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-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__________to the museum with m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That’s a good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not go    B. don’t go      C. going        D. not 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__________from space, the earth looks like a “bl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net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eing      B. To see     C. Seen        D. Having s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__________a reply , he decided to write another l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Having not received          B. Not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Not having received          D. Not rece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Remember___________my best regards to him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wr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ending       B. send      C. sent       D.to s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092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1600" y="1590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5792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58120" y="448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680" y="447840"/>
            <a:ext cx="8931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her than__________on a crowded bus, he al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fers__________a bi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ride ; ride                  B. ridding ; r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ride ; to ride             D. to ride ; ri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__________in thought, he almost ran into the c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front of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Losing        B. Having lost     C. Lost   D. To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It  is useless _________argue with such a cruel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try      B. trying      C. have tried    D. had tr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John is young, but we never knew _________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ody with___________ a wise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o ; so     B. such ; such      C. such ; so    D. so; s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8180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57920" y="2124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10040" y="3419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87120" y="42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9440" y="295200"/>
            <a:ext cx="86875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With the _________number of cars we have ha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ild many new roa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creased                      B. increasing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eing creased               D.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Her mother has greatly taken pride________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s son achieved in the ex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th       B. for       C. in          D.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I will come on condition___________my parent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ited,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at          B. what           C. which         D.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I felt sad because he pretended__________me 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not to have seen               B. not to s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have seen                      D. not se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81440" y="219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15720" y="1819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67800" y="326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34840" y="448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9280" y="152280"/>
            <a:ext cx="89226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out the air to hold some of the sun’s heat,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th at night____________, too cold for us to l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ould be freezing cold       B. will be freezing col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ould be frozen cold          D. can freeze col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_________the little girl opened the window, a lo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rd flew 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ough    B. The moment      C. Whether   D. Un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________the past, our life is much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omparing with             B.  Be comp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compare with             D. Compar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---What can we do to help Jack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All we can do is to try__________that he ough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 ha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aking him to realize     B. making him re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make him realize         D. to make him to re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900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57560" y="1819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0564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9200" y="4867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49:41Z</dcterms:modified>
  <cp:revision>11</cp:revision>
  <dc:subject/>
  <dc:title>PowerPoint Presentation</dc:title>
</cp:coreProperties>
</file>